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C47-49D0-4102-AFBA-7BD8B612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236-32A1-4D45-8154-8F837C40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4C9-3BE5-448B-BC44-24D5A99B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33B-FE68-4B61-924E-66426257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A86-9238-4AA8-966D-99F4D344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E01-332D-4EB7-87E5-6A604C49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26D-9B42-48EB-A58F-BA3B9217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7AB-78A1-4377-A079-0569FE63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ABA-28CB-4D35-9D3B-79278203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097-9553-4B22-9E14-5F2D2109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1E5-0BFC-421A-A14B-30262F4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ACC-E046-47EC-9E8D-38559CB7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787-A90E-4777-B57D-685C79E3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71800" y="713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Текут, текут - не вытек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Бегут, бегут – не выб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4910040" cy="199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ульт земной шар"/>
          <p:cNvPicPr/>
          <p:nvPr/>
        </p:nvPicPr>
        <p:blipFill>
          <a:blip r:embed="rId3"/>
          <a:stretch/>
        </p:blipFill>
        <p:spPr>
          <a:xfrm>
            <a:off x="0" y="214200"/>
            <a:ext cx="21240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945680" y="614376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. И. Левитан.  Вечерний зв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Arial"/>
              </a:rPr>
              <a:t>Что такое р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Река – постоянно текущ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Рисунок19.jpg"/>
          <p:cNvPicPr/>
          <p:nvPr/>
        </p:nvPicPr>
        <p:blipFill>
          <a:blip r:embed="rId2"/>
          <a:stretch/>
        </p:blipFill>
        <p:spPr>
          <a:xfrm>
            <a:off x="285840" y="2571840"/>
            <a:ext cx="463536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Рисунок18.jpg"/>
          <p:cNvPicPr/>
          <p:nvPr/>
        </p:nvPicPr>
        <p:blipFill>
          <a:blip r:embed="rId3"/>
          <a:stretch/>
        </p:blipFill>
        <p:spPr>
          <a:xfrm>
            <a:off x="5357880" y="1928880"/>
            <a:ext cx="3506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4" descr="Рисунок11.jpg"/>
          <p:cNvPicPr/>
          <p:nvPr/>
        </p:nvPicPr>
        <p:blipFill>
          <a:blip r:embed="rId2"/>
          <a:stretch/>
        </p:blipFill>
        <p:spPr>
          <a:xfrm>
            <a:off x="960480" y="1357200"/>
            <a:ext cx="7223040" cy="51595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Схема ре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8954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7400" y="17524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17220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 flipV="1">
            <a:off x="5181480" y="2286000"/>
            <a:ext cx="9907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4190760" y="2438280"/>
            <a:ext cx="1981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3071880" y="4214880"/>
            <a:ext cx="20574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857240" y="5214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 repeatCount="2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2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 repeatCount="200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 repeatCount="200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Рисунок10.jpg"/>
          <p:cNvPicPr/>
          <p:nvPr/>
        </p:nvPicPr>
        <p:blipFill>
          <a:blip r:embed="rId2"/>
          <a:stretch/>
        </p:blipFill>
        <p:spPr>
          <a:xfrm>
            <a:off x="1211400" y="1071720"/>
            <a:ext cx="6721200" cy="5537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Ре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460680" y="1677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278160" y="1916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56000" y="3284640"/>
            <a:ext cx="5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347920" y="314172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ы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516200" y="3643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52132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792600" y="587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578840" y="36450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5293800" y="44370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419640" y="580536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Arial"/>
              </a:rPr>
              <a:t>Давайте повто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о.jpg"/>
          <p:cNvPicPr/>
          <p:nvPr/>
        </p:nvPicPr>
        <p:blipFill>
          <a:blip r:embed="rId2"/>
          <a:stretch/>
        </p:blipFill>
        <p:spPr>
          <a:xfrm>
            <a:off x="1633680" y="3857760"/>
            <a:ext cx="58766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928800" y="1214280"/>
            <a:ext cx="761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14:26Z</dcterms:created>
  <dc:creator>USER</dc:creator>
  <dc:description/>
  <dc:language>en-US</dc:language>
  <cp:lastModifiedBy>Сергей</cp:lastModifiedBy>
  <dcterms:modified xsi:type="dcterms:W3CDTF">2011-12-22T21:22:28Z</dcterms:modified>
  <cp:revision>20</cp:revision>
  <dc:subject/>
  <dc:title>Слайд 1</dc:title>
</cp:coreProperties>
</file>